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C6110-E946-45AA-A9B3-ED622837A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20A1-E845-47A8-8ADD-58CA8E33B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447BC-F1AC-4D05-8404-60F0F4176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0A3ED-826E-4080-8128-1FD0EE673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E6D49-E717-4C5E-8B3B-4A8844CBE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795DC-7A7A-4625-8EEB-34CECB8F5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9F54E-1800-4435-8975-0F7E9A2EF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F9EEA-9DE8-442F-B082-D982CCB39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E7D6E-77F9-4BF7-9607-4902B3C0B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961A3-6690-48CF-8F0A-880F4CD01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ED5A5-CD04-44EF-A888-CEF07A0EE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9DB7E-14AD-40C2-9947-22927F09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A8B7E-E37E-4FC4-9DEE-27ABB51AE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BEA70-43E4-4D33-8B37-E3BE138C8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AE258-12CE-453E-AA18-44E296A0A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92012-10D3-4FF6-AB1F-1561C1489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75AB8-3ABE-4AEF-97AC-A47C906F4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7FB6A-64C6-4504-92DC-D73238D19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5506-6D8F-47E6-8FD0-6E17DBAB8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382E-9313-4B1F-9BBB-FC561325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B1A5-2E1D-40C7-9078-3E6C4483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A11B-F390-44C3-9040-D0FA0C35E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DD05-07E3-451C-B602-22B6C2BE8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D6B5-DAC9-455D-97D6-3E2CFB956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5E93-9F58-46FB-BB84-CD9BD9DB4D0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BD7D-21C6-4C50-B3BE-78AEFC2159B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Hotlips@someisp.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How to make a “giveaway portfolio”</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ing professional quality self-promotional materi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ume Tips</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exaggerate—it will catch up with you.  Sometimes this sort of thing catches up with people on the 6 o’clock news (very public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are describing a job you have held, use strong verbs:  organized, created, trained, led, facilitated, et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D tips</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sure you use programs that are widely available so your files will open on most computers:  Microsoft word, Adobe Acrobat, etc.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are not creating a CD that has a virus—that is a sure way to not get hired.</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an letters of recommendation, transcripts, Praxis scores, student work, as if it were a photograph so that the resulting file looks like the origi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D Tips</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reating a powerpoint that organizes the materials so that a potential employer can understand what they mean in relation to you.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sure the file names of the materials on your CD would be clear to another pers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organizing your materials in relation to Capital U. Ed. Dept. goals or Praxis domains.  If you use Capital U. goals, be sure to create a document that lets employers know what these 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Giveaway Portfolio?</a:t>
            </a:r>
            <a:endParaRPr b="0" lang="en-US" sz="4400" spc="-1" strike="noStrike">
              <a:solidFill>
                <a:srgbClr val="ffffcc"/>
              </a:solidFill>
              <a:latin typeface="Tahoma"/>
            </a:endParaRPr>
          </a:p>
        </p:txBody>
      </p:sp>
      <p:pic>
        <p:nvPicPr>
          <p:cNvPr id="91" name="" descr=""/>
          <p:cNvPicPr/>
          <p:nvPr/>
        </p:nvPicPr>
        <p:blipFill>
          <a:blip r:embed="rId1"/>
          <a:stretch/>
        </p:blipFill>
        <p:spPr>
          <a:xfrm>
            <a:off x="3505320" y="1373040"/>
            <a:ext cx="4671720" cy="5484960"/>
          </a:xfrm>
          <a:prstGeom prst="rect">
            <a:avLst/>
          </a:prstGeom>
          <a:ln w="0">
            <a:noFill/>
          </a:ln>
        </p:spPr>
      </p:pic>
      <p:pic>
        <p:nvPicPr>
          <p:cNvPr id="92" name="" descr=""/>
          <p:cNvPicPr/>
          <p:nvPr/>
        </p:nvPicPr>
        <p:blipFill>
          <a:blip r:embed="rId2"/>
          <a:stretch/>
        </p:blipFill>
        <p:spPr>
          <a:xfrm>
            <a:off x="762120" y="2971800"/>
            <a:ext cx="1919160" cy="1828800"/>
          </a:xfrm>
          <a:prstGeom prst="rect">
            <a:avLst/>
          </a:prstGeom>
          <a:ln w="0">
            <a:noFill/>
          </a:ln>
        </p:spPr>
      </p:pic>
      <p:sp>
        <p:nvSpPr>
          <p:cNvPr id="93" name=""/>
          <p:cNvSpPr/>
          <p:nvPr/>
        </p:nvSpPr>
        <p:spPr>
          <a:xfrm>
            <a:off x="3484440" y="1295280"/>
            <a:ext cx="560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lder with print out of resume and other material</a:t>
            </a:r>
            <a:endParaRPr b="0" lang="en-US" sz="1800" spc="-1" strike="noStrike">
              <a:solidFill>
                <a:srgbClr val="ffffff"/>
              </a:solidFill>
              <a:latin typeface="Arial"/>
            </a:endParaRPr>
          </a:p>
        </p:txBody>
      </p:sp>
      <p:sp>
        <p:nvSpPr>
          <p:cNvPr id="94" name=""/>
          <p:cNvSpPr/>
          <p:nvPr/>
        </p:nvSpPr>
        <p:spPr>
          <a:xfrm>
            <a:off x="228600" y="5029200"/>
            <a:ext cx="298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 that has electronic materials (documents, audio recordings, videos, etc.)</a:t>
            </a:r>
            <a:endParaRPr b="0" lang="en-US" sz="1800" spc="-1" strike="noStrike">
              <a:solidFill>
                <a:srgbClr val="ffffff"/>
              </a:solidFill>
              <a:latin typeface="Arial"/>
            </a:endParaRPr>
          </a:p>
        </p:txBody>
      </p:sp>
      <p:sp>
        <p:nvSpPr>
          <p:cNvPr id="95" name=""/>
          <p:cNvSpPr/>
          <p:nvPr/>
        </p:nvSpPr>
        <p:spPr>
          <a:xfrm>
            <a:off x="289080" y="1479600"/>
            <a:ext cx="245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iveaway Portfolio has two item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s potential employers access to a lot of information about you</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you to stand out as a job applicant</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your ability to use technolog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s your teaching abilities</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designed to be inexpensive to create so you can give it away at all your job interview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goes in a Giveaway Portfolio?</a:t>
            </a:r>
            <a:endParaRPr b="0" lang="en-US" sz="4000" spc="-1" strike="noStrike">
              <a:solidFill>
                <a:srgbClr val="ffffcc"/>
              </a:solidFill>
              <a:latin typeface="Tahoma"/>
            </a:endParaRPr>
          </a:p>
        </p:txBody>
      </p:sp>
      <p:pic>
        <p:nvPicPr>
          <p:cNvPr id="99" name="" descr=""/>
          <p:cNvPicPr/>
          <p:nvPr/>
        </p:nvPicPr>
        <p:blipFill>
          <a:blip r:embed="rId1"/>
          <a:stretch/>
        </p:blipFill>
        <p:spPr>
          <a:xfrm>
            <a:off x="838080" y="1676520"/>
            <a:ext cx="3117960" cy="3659040"/>
          </a:xfrm>
          <a:prstGeom prst="rect">
            <a:avLst/>
          </a:prstGeom>
          <a:ln w="0">
            <a:noFill/>
          </a:ln>
        </p:spPr>
      </p:pic>
      <p:sp>
        <p:nvSpPr>
          <p:cNvPr id="100" name=""/>
          <p:cNvSpPr/>
          <p:nvPr/>
        </p:nvSpPr>
        <p:spPr>
          <a:xfrm>
            <a:off x="4333320" y="2013120"/>
            <a:ext cx="43747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inted mat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ume with contact inform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siness card with contact inform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ssib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hilosophy of Educ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crip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tters of recommendation</a:t>
            </a:r>
            <a:endParaRPr b="0" lang="en-US" sz="1800" spc="-1" strike="noStrike">
              <a:solidFill>
                <a:srgbClr val="ffffff"/>
              </a:solidFill>
              <a:latin typeface="Arial"/>
            </a:endParaRPr>
          </a:p>
        </p:txBody>
      </p:sp>
      <p:sp>
        <p:nvSpPr>
          <p:cNvPr id="101" name=""/>
          <p:cNvSpPr/>
          <p:nvPr/>
        </p:nvSpPr>
        <p:spPr>
          <a:xfrm>
            <a:off x="1288080" y="5638680"/>
            <a:ext cx="652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fill it up too much with printed material.  Be select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D</a:t>
            </a:r>
            <a:endParaRPr b="0" lang="en-US" sz="4400" spc="-1" strike="noStrike">
              <a:solidFill>
                <a:srgbClr val="ffffcc"/>
              </a:solidFill>
              <a:latin typeface="Tahoma"/>
            </a:endParaRPr>
          </a:p>
        </p:txBody>
      </p:sp>
      <p:pic>
        <p:nvPicPr>
          <p:cNvPr id="103" name="" descr=""/>
          <p:cNvPicPr/>
          <p:nvPr/>
        </p:nvPicPr>
        <p:blipFill>
          <a:blip r:embed="rId1"/>
          <a:stretch/>
        </p:blipFill>
        <p:spPr>
          <a:xfrm>
            <a:off x="609480" y="2438280"/>
            <a:ext cx="1919520" cy="1828800"/>
          </a:xfrm>
          <a:prstGeom prst="rect">
            <a:avLst/>
          </a:prstGeom>
          <a:ln w="0">
            <a:noFill/>
          </a:ln>
        </p:spPr>
      </p:pic>
      <p:sp>
        <p:nvSpPr>
          <p:cNvPr id="104" name=""/>
          <p:cNvSpPr/>
          <p:nvPr/>
        </p:nvSpPr>
        <p:spPr>
          <a:xfrm>
            <a:off x="3032280" y="1936800"/>
            <a:ext cx="5806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D is where you can be really creative.  Here are some possibilitie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pers your wrote (research papers, handbooks, etc.)</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of you teaching</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dio recording of musical performanc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tters of recommendation (scann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cripts (scann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of student work (scann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on plans you created and taugh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hotos of you working with student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werpoint about you as a teach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about you as a teacher</a:t>
            </a:r>
            <a:endParaRPr b="0" lang="en-US" sz="1800" spc="-1" strike="noStrike">
              <a:solidFill>
                <a:srgbClr val="ffffff"/>
              </a:solidFill>
              <a:latin typeface="Arial"/>
            </a:endParaRPr>
          </a:p>
        </p:txBody>
      </p:sp>
      <p:sp>
        <p:nvSpPr>
          <p:cNvPr id="105" name=""/>
          <p:cNvSpPr/>
          <p:nvPr/>
        </p:nvSpPr>
        <p:spPr>
          <a:xfrm>
            <a:off x="212760" y="5594400"/>
            <a:ext cx="893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urpose of this material is to give a potential employer information about you.  Think about this as you select materi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nformation about prin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at most administrators are middle-aged and they need larger rather than smaller print.  Do not use less than 12 point typ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dea behind having some print items in the portfolio is that some administrators will never look at the C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neral information about all items in the Giveaway Portfolio</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sure your contact information is on all items that are in your portfolio (CD, business card, resume).  You never know when items might become separated.  Contact information includes permanently good telephone number and e-mail addr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ernet Traps</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ure the e-mail that you share with potential employers is professional in nature.  </a:t>
            </a:r>
            <a:r>
              <a:rPr b="0" lang="en-US" sz="3200" spc="-1" strike="noStrike" u="sng">
                <a:solidFill>
                  <a:srgbClr val="ffcc66"/>
                </a:solidFill>
                <a:uFillTx/>
                <a:latin typeface="Tahoma"/>
                <a:hlinkClick r:id="rId1"/>
              </a:rPr>
              <a:t>Hotlips@someisp.com</a:t>
            </a:r>
            <a:r>
              <a:rPr b="0" lang="en-US" sz="3200" spc="-1" strike="noStrike">
                <a:solidFill>
                  <a:srgbClr val="ffffff"/>
                </a:solidFill>
                <a:latin typeface="Tahoma"/>
              </a:rPr>
              <a:t> is not a professional e-mail.  Create a new screen name for yourself and check it often.</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savvy potential employers will Google your name and/or e-mail.  Clean up your blogs accordingly BEFORE you start to apply for job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ume Tip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your licensure on your resume.  If you don’t have it yet, put “Anticipated, [dat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only stated myth that resumes for college students should be only one page in length.  If you have legitimate, necessary material for a longer resume, by all means, use i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crosoft Word resume templates are beautiful but they were probably designed by a 20 year old with eagle-like eyesight.  They frequently use very small fonts.  Be sure to use 12 point type in your resu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8:53:21Z</dcterms:created>
  <dc:creator>Capital University</dc:creator>
  <dc:description/>
  <dc:language>en-US</dc:language>
  <cp:lastModifiedBy>Capital University</cp:lastModifiedBy>
  <dcterms:modified xsi:type="dcterms:W3CDTF">2006-06-01T19:31:50Z</dcterms:modified>
  <cp:revision>9</cp:revision>
  <dc:subject/>
  <dc:title>How to make a “giveaway portfolio”</dc:title>
</cp:coreProperties>
</file>